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A338A-5791-4B70-AFF3-183FB3456594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5BB30-6A49-4186-AA4B-DADA7B0B38D8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4C9C8-5986-47E8-87E5-55E1EA096CD3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IPAMincho"/>
              </a:rPr>
              <a:t>Prisma 2009 flow diagra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17C26-9FF8-4EBA-8497-DDFBE838CA50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IPAMincho"/>
              </a:rPr>
              <a:t>Philips quality appraisal—absolute numbers of fulfilled item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A0F16-0A50-44FD-9E15-92FCDCDED397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IPAMincho"/>
              </a:rPr>
              <a:t>Caro quality appraisal—absolute number of fulfilled item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360360" y="1260360"/>
            <a:ext cx="864072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Aft>
                <a:spcPts val="31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Economic Evaluations of Multicomponent Disease Management Programs with Markov Models: A Systematic Review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27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Florian Kirsch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Value in Healt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OI: 10.1016/j.jval.2016.07.00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952560" y="655632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International Society for Pharmacoeconomics and Outcomes Research (ISPOR)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4233960" y="79200"/>
            <a:ext cx="677880" cy="30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. 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969920" y="762120"/>
            <a:ext cx="5254920" cy="4984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Value in Health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DOI: (10.1016/j.jval.2016.07.004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952560" y="655632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International Society for Pharmacoeconomics and Outcomes Research (ISPOR)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1"/>
          <p:cNvSpPr/>
          <p:nvPr/>
        </p:nvSpPr>
        <p:spPr>
          <a:xfrm>
            <a:off x="4233960" y="79200"/>
            <a:ext cx="677880" cy="30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. 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22360" y="1584360"/>
            <a:ext cx="6350040" cy="3340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Value in Health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DOI: (10.1016/j.jval.2016.07.004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952560" y="655632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International Society for Pharmacoeconomics and Outcomes Research (ISPOR)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1"/>
          <p:cNvSpPr/>
          <p:nvPr/>
        </p:nvSpPr>
        <p:spPr>
          <a:xfrm>
            <a:off x="4233960" y="79200"/>
            <a:ext cx="677880" cy="30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. 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422360" y="1581120"/>
            <a:ext cx="6350040" cy="334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Value in Health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DOI: (10.1016/j.jval.2016.07.004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952560" y="655632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International Society for Pharmacoeconomics and Outcomes Research (ISPOR)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uner, Katrin</dc:creator>
  <dc:description/>
  <dc:language>en-US</dc:language>
  <cp:lastModifiedBy>katrin.rauner</cp:lastModifiedBy>
  <dcterms:modified xsi:type="dcterms:W3CDTF">2016-10-17T10:27:08Z</dcterms:modified>
  <cp:revision>1</cp:revision>
  <dc:subject/>
  <dc:title>PowerPoint-Präsentation</dc:title>
</cp:coreProperties>
</file>